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2.jpeg" ContentType="image/jpeg"/>
  <Override PartName="/ppt/media/image40.wmf" ContentType="image/x-wmf"/>
  <Override PartName="/ppt/media/image38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41.wmf" ContentType="image/x-wmf"/>
  <Override PartName="/ppt/media/image4.gif" ContentType="image/gif"/>
  <Override PartName="/ppt/media/image8.jpeg" ContentType="image/jpeg"/>
  <Override PartName="/ppt/media/image39.wmf" ContentType="image/x-wmf"/>
  <Override PartName="/ppt/media/image24.gif" ContentType="image/gif"/>
  <Override PartName="/ppt/media/image20.wmf" ContentType="image/x-wmf"/>
  <Override PartName="/ppt/media/image57.wmf" ContentType="image/x-wmf"/>
  <Override PartName="/ppt/media/image26.jpeg" ContentType="image/jpeg"/>
  <Override PartName="/ppt/media/image72.wmf" ContentType="image/x-wmf"/>
  <Override PartName="/ppt/media/image2.png" ContentType="image/png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0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63.wmf" ContentType="image/x-wmf"/>
  <Override PartName="/ppt/media/image65.wmf" ContentType="image/x-wmf"/>
  <Override PartName="/ppt/media/image66.wmf" ContentType="image/x-wmf"/>
  <Override PartName="/ppt/media/image64.wmf" ContentType="image/x-wmf"/>
  <Override PartName="/ppt/media/image11.jpeg" ContentType="image/jpeg"/>
  <Override PartName="/ppt/media/image81.png" ContentType="image/png"/>
  <Override PartName="/ppt/media/image79.wmf" ContentType="image/x-wmf"/>
  <Override PartName="/ppt/media/image67.wmf" ContentType="image/x-wmf"/>
  <Override PartName="/ppt/media/image30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69.wmf" ContentType="image/x-wmf"/>
  <Override PartName="/ppt/media/image71.wmf" ContentType="image/x-wmf"/>
  <Override PartName="/ppt/media/image1.png" ContentType="image/png"/>
  <Override PartName="/ppt/media/image70.wmf" ContentType="image/x-wmf"/>
  <Override PartName="/ppt/media/image28.wmf" ContentType="image/x-wmf"/>
  <Override PartName="/ppt/media/image68.wmf" ContentType="image/x-wmf"/>
  <Override PartName="/ppt/media/image16.wmf" ContentType="image/x-wmf"/>
  <Override PartName="/ppt/media/image14.wmf" ContentType="image/x-wmf"/>
  <Override PartName="/ppt/media/image33.wmf" ContentType="image/x-wmf"/>
  <Override PartName="/ppt/media/image3.wmf" ContentType="image/x-wmf"/>
  <Override PartName="/ppt/media/image80.wmf" ContentType="image/x-wmf"/>
  <Override PartName="/ppt/media/image15.wmf" ContentType="image/x-wmf"/>
  <Override PartName="/ppt/media/image19.wmf" ContentType="image/x-wmf"/>
  <Override PartName="/ppt/media/image7.wmf" ContentType="image/x-wmf"/>
  <Override PartName="/ppt/media/image29.jpeg" ContentType="image/jpeg"/>
  <Override PartName="/ppt/media/image37.wmf" ContentType="image/x-wmf"/>
  <Override PartName="/ppt/media/image23.wmf" ContentType="image/x-wmf"/>
  <Override PartName="/ppt/media/image12.wmf" ContentType="image/x-wmf"/>
  <Override PartName="/ppt/media/image49.wmf" ContentType="image/x-wmf"/>
  <Override PartName="/ppt/media/image13.wmf" ContentType="image/x-wmf"/>
  <Override PartName="/ppt/media/image27.jpeg" ContentType="image/jpeg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B568-E89F-4031-AC8E-BC87A2EFB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F5 to start game.  Ctrl-End for help on creating a new g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slide immediately follows each question slide.  Click on question mark to go to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left box at bottom returns to game board.  Clicking right box returns to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F5 to start g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E5D-1CA4-4B56-ABAC-88C1F18E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F89-B8F0-4704-AD86-39F6533F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4EF-296A-4410-AD33-59DBA5E6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9F70-B707-4930-B50C-E991D941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E0F-3157-46EF-AA11-72521964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236-6111-4E1B-A99A-F0EF6010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2FD-E37F-41E9-AA13-DF2D5A4B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8F6-DE88-4557-A8DE-858C5272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2A0-E851-4BD9-AF1C-FFD76294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1D4-FC94-4715-9925-F4463A9E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2B5-10D3-49A8-9C16-CE64D3E6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254-DE39-451D-9592-EFE881A3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372C-9E07-4C31-9255-ECCB6846F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gif"/><Relationship Id="rId4" Type="http://schemas.openxmlformats.org/officeDocument/2006/relationships/slide" Target="slide4.xml"/><Relationship Id="rId5" Type="http://schemas.openxmlformats.org/officeDocument/2006/relationships/image" Target="../media/image25.wmf"/><Relationship Id="rId6" Type="http://schemas.openxmlformats.org/officeDocument/2006/relationships/slide" Target="slide3.xml"/><Relationship Id="rId7" Type="http://schemas.openxmlformats.org/officeDocument/2006/relationships/image" Target="../media/image26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29.jpeg"/><Relationship Id="rId5" Type="http://schemas.openxmlformats.org/officeDocument/2006/relationships/slide" Target="slide3.xml"/><Relationship Id="rId6" Type="http://schemas.openxmlformats.org/officeDocument/2006/relationships/image" Target="../media/image26.jpeg"/><Relationship Id="rId7" Type="http://schemas.openxmlformats.org/officeDocument/2006/relationships/slide" Target="slide3.xml"/><Relationship Id="rId8" Type="http://schemas.openxmlformats.org/officeDocument/2006/relationships/oleObject" Target="../embeddings/oleObject2.bin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25.wmf"/><Relationship Id="rId5" Type="http://schemas.openxmlformats.org/officeDocument/2006/relationships/slide" Target="slide3.xml"/><Relationship Id="rId6" Type="http://schemas.openxmlformats.org/officeDocument/2006/relationships/image" Target="../media/image26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4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4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4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5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5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0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5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2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5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4.wm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5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6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6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14.xml"/><Relationship Id="rId4" Type="http://schemas.openxmlformats.org/officeDocument/2006/relationships/slide" Target="slide20.xml"/><Relationship Id="rId5" Type="http://schemas.openxmlformats.org/officeDocument/2006/relationships/slide" Target="slide38.xml"/><Relationship Id="rId6" Type="http://schemas.openxmlformats.org/officeDocument/2006/relationships/slide" Target="slide28.xml"/><Relationship Id="rId7" Type="http://schemas.openxmlformats.org/officeDocument/2006/relationships/slide" Target="slide36.xml"/><Relationship Id="rId8" Type="http://schemas.openxmlformats.org/officeDocument/2006/relationships/slide" Target="slide26.xml"/><Relationship Id="rId9" Type="http://schemas.openxmlformats.org/officeDocument/2006/relationships/slide" Target="slide34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32.xml"/><Relationship Id="rId13" Type="http://schemas.openxmlformats.org/officeDocument/2006/relationships/slide" Target="slide30.xml"/><Relationship Id="rId14" Type="http://schemas.openxmlformats.org/officeDocument/2006/relationships/slide" Target="slide18.xml"/><Relationship Id="rId15" Type="http://schemas.openxmlformats.org/officeDocument/2006/relationships/slide" Target="slide16.xml"/><Relationship Id="rId16" Type="http://schemas.openxmlformats.org/officeDocument/2006/relationships/slide" Target="slide58.xml"/><Relationship Id="rId17" Type="http://schemas.openxmlformats.org/officeDocument/2006/relationships/slide" Target="slide56.xml"/><Relationship Id="rId18" Type="http://schemas.openxmlformats.org/officeDocument/2006/relationships/slide" Target="slide54.xml"/><Relationship Id="rId19" Type="http://schemas.openxmlformats.org/officeDocument/2006/relationships/slide" Target="slide52.xml"/><Relationship Id="rId20" Type="http://schemas.openxmlformats.org/officeDocument/2006/relationships/slide" Target="slide50.xml"/><Relationship Id="rId21" Type="http://schemas.openxmlformats.org/officeDocument/2006/relationships/slide" Target="slide48.xml"/><Relationship Id="rId22" Type="http://schemas.openxmlformats.org/officeDocument/2006/relationships/slide" Target="slide46.xml"/><Relationship Id="rId23" Type="http://schemas.openxmlformats.org/officeDocument/2006/relationships/slide" Target="slide44.xml"/><Relationship Id="rId24" Type="http://schemas.openxmlformats.org/officeDocument/2006/relationships/slide" Target="slide42.xml"/><Relationship Id="rId25" Type="http://schemas.openxmlformats.org/officeDocument/2006/relationships/slide" Target="slide40.xml"/><Relationship Id="rId26" Type="http://schemas.openxmlformats.org/officeDocument/2006/relationships/slide" Target="slide12.xml"/><Relationship Id="rId27" Type="http://schemas.openxmlformats.org/officeDocument/2006/relationships/slide" Target="slide62.xml"/><Relationship Id="rId28" Type="http://schemas.openxmlformats.org/officeDocument/2006/relationships/slide" Target="slide60.xml"/><Relationship Id="rId29" Type="http://schemas.openxmlformats.org/officeDocument/2006/relationships/slide" Target="slide64.xml"/><Relationship Id="rId30" Type="http://schemas.openxmlformats.org/officeDocument/2006/relationships/slide" Target="slide66.xml"/><Relationship Id="rId31" Type="http://schemas.openxmlformats.org/officeDocument/2006/relationships/slide" Target="slide68.xml"/><Relationship Id="rId32" Type="http://schemas.openxmlformats.org/officeDocument/2006/relationships/slide" Target="slide5.xml"/><Relationship Id="rId33" Type="http://schemas.openxmlformats.org/officeDocument/2006/relationships/slide" Target="slide6.xml"/><Relationship Id="rId34" Type="http://schemas.openxmlformats.org/officeDocument/2006/relationships/slide" Target="slide7.xml"/><Relationship Id="rId35" Type="http://schemas.openxmlformats.org/officeDocument/2006/relationships/slide" Target="slide8.xml"/><Relationship Id="rId36" Type="http://schemas.openxmlformats.org/officeDocument/2006/relationships/slide" Target="slide9.xml"/><Relationship Id="rId37" Type="http://schemas.openxmlformats.org/officeDocument/2006/relationships/slide" Target="slide10.xml"/><Relationship Id="rId38" Type="http://schemas.openxmlformats.org/officeDocument/2006/relationships/image" Target="../media/image9.wmf"/><Relationship Id="rId39" Type="http://schemas.openxmlformats.org/officeDocument/2006/relationships/image" Target="../media/image10.wmf"/><Relationship Id="rId4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6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8.wmf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8.wmf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6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26.jpeg"/><Relationship Id="rId5" Type="http://schemas.openxmlformats.org/officeDocument/2006/relationships/slide" Target="slide3.xml"/><Relationship Id="rId6" Type="http://schemas.openxmlformats.org/officeDocument/2006/relationships/image" Target="../media/image2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2.wmf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6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53.wmf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3.wm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6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image" Target="../media/image25.wmf"/><Relationship Id="rId5" Type="http://schemas.openxmlformats.org/officeDocument/2006/relationships/slide" Target="slide3.xml"/><Relationship Id="rId6" Type="http://schemas.openxmlformats.org/officeDocument/2006/relationships/image" Target="../media/image26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57.wmf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7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7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26.jpeg"/><Relationship Id="rId5" Type="http://schemas.openxmlformats.org/officeDocument/2006/relationships/slide" Target="slide3.xml"/><Relationship Id="rId6" Type="http://schemas.openxmlformats.org/officeDocument/2006/relationships/image" Target="../media/image2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7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60.wmf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0.wmf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7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62.wmf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3.wmf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7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4.wmf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7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65.wmf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26.jpeg"/><Relationship Id="rId5" Type="http://schemas.openxmlformats.org/officeDocument/2006/relationships/slide" Target="slide3.xml"/><Relationship Id="rId6" Type="http://schemas.openxmlformats.org/officeDocument/2006/relationships/image" Target="../media/image2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image" Target="../media/image25.wmf"/><Relationship Id="rId5" Type="http://schemas.openxmlformats.org/officeDocument/2006/relationships/slide" Target="slide3.xml"/><Relationship Id="rId6" Type="http://schemas.openxmlformats.org/officeDocument/2006/relationships/image" Target="../media/image26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66.wmf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6.wmf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8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68.wmf"/><Relationship Id="rId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9.wmf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8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0.wm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1.wmf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8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2.wmf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4.wmf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8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5.wmf"/><Relationship Id="rId9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7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image" Target="../media/image25.wmf"/><Relationship Id="rId5" Type="http://schemas.openxmlformats.org/officeDocument/2006/relationships/slide" Target="slide3.xml"/><Relationship Id="rId6" Type="http://schemas.openxmlformats.org/officeDocument/2006/relationships/image" Target="../media/image26.jpeg"/><Relationship Id="rId7" Type="http://schemas.openxmlformats.org/officeDocument/2006/relationships/slide" Target="slide3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9.wmf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9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8.wmf"/><Relationship Id="rId9" Type="http://schemas.openxmlformats.org/officeDocument/2006/relationships/image" Target="../media/image80.wmf"/><Relationship Id="rId10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9.wmf"/><Relationship Id="rId8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9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8.wmf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9.wmf"/><Relationship Id="rId8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9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8.wmf"/><Relationship Id="rId9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9.wmf"/><Relationship Id="rId8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9.xml"/><Relationship Id="rId3" Type="http://schemas.openxmlformats.org/officeDocument/2006/relationships/image" Target="../media/image25.wmf"/><Relationship Id="rId4" Type="http://schemas.openxmlformats.org/officeDocument/2006/relationships/slide" Target="slide3.xml"/><Relationship Id="rId5" Type="http://schemas.openxmlformats.org/officeDocument/2006/relationships/image" Target="../media/image26.jpeg"/><Relationship Id="rId6" Type="http://schemas.openxmlformats.org/officeDocument/2006/relationships/slide" Target="slide3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78.wmf"/><Relationship Id="rId9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2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9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6.jpeg"/><Relationship Id="rId3" Type="http://schemas.openxmlformats.org/officeDocument/2006/relationships/image" Target="../media/image2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8.wmf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jpeg"/><Relationship Id="rId3" Type="http://schemas.openxmlformats.org/officeDocument/2006/relationships/image" Target="../media/image29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9.wmf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1.png"/><Relationship Id="rId3" Type="http://schemas.openxmlformats.org/officeDocument/2006/relationships/image" Target="../media/image81.png"/><Relationship Id="rId4" Type="http://schemas.openxmlformats.org/officeDocument/2006/relationships/image" Target="../media/image81.png"/><Relationship Id="rId5" Type="http://schemas.openxmlformats.org/officeDocument/2006/relationships/image" Target="../media/image80.wmf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1981080"/>
            <a:ext cx="77724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ss  F5  t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art gam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-304920"/>
            <a:ext cx="17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mplate Version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5105520"/>
            <a:ext cx="510552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d &amp; Cut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final jeopardy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y and help/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066680" y="1981080"/>
          <a:ext cx="7086600" cy="27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086600" cy="27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j0172629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j010517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0" y="5486400"/>
            <a:ext cx="1905120" cy="1371600"/>
            <a:chOff x="0" y="5486400"/>
            <a:chExt cx="1905120" cy="1371600"/>
          </a:xfrm>
        </p:grpSpPr>
        <p:pic>
          <p:nvPicPr>
            <p:cNvPr id="196" name="Jeopardy%20Thumbnail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80880" y="571500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>
              <a:hlinkClick r:id="rId8" action="ppaction://hlinksldjump"/>
            </p:cNvPr>
            <p:cNvSpPr/>
            <p:nvPr/>
          </p:nvSpPr>
          <p:spPr>
            <a:xfrm>
              <a:off x="0" y="548640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304920" y="571500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140360" y="2470320"/>
          <a:ext cx="2971800" cy="219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2470320"/>
                    <a:ext cx="2971800" cy="21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2438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543800" y="5638680"/>
            <a:ext cx="1600200" cy="1219320"/>
            <a:chOff x="7543800" y="5638680"/>
            <a:chExt cx="1600200" cy="1219320"/>
          </a:xfrm>
        </p:grpSpPr>
        <p:pic>
          <p:nvPicPr>
            <p:cNvPr id="20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772400" y="5791320"/>
              <a:ext cx="12952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 txBox="1"/>
            <p:nvPr/>
          </p:nvSpPr>
          <p:spPr>
            <a:xfrm>
              <a:off x="7848720" y="5867280"/>
              <a:ext cx="11239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8" name="">
              <a:hlinkClick r:id="" action="ppaction://hlinkshowjump?jump=previousslide"/>
            </p:cNvPr>
            <p:cNvSpPr/>
            <p:nvPr/>
          </p:nvSpPr>
          <p:spPr>
            <a:xfrm>
              <a:off x="7543800" y="5638680"/>
              <a:ext cx="16002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10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213" name=""/>
          <p:cNvGraphicFramePr/>
          <p:nvPr/>
        </p:nvGraphicFramePr>
        <p:xfrm>
          <a:off x="152280" y="3124080"/>
          <a:ext cx="2590920" cy="102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3124080"/>
                    <a:ext cx="259092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3048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25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049400" y="1981080"/>
          <a:ext cx="7121520" cy="2795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9400" y="1981080"/>
                    <a:ext cx="7121520" cy="27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743200" y="1523880"/>
            <a:ext cx="57913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35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23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1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2" name=""/>
          <p:cNvGraphicFramePr/>
          <p:nvPr/>
        </p:nvGraphicFramePr>
        <p:xfrm>
          <a:off x="3370320" y="2470320"/>
          <a:ext cx="4511520" cy="219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70320" y="2470320"/>
                    <a:ext cx="4511520" cy="21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0" y="3243240"/>
          <a:ext cx="2743200" cy="1076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3243240"/>
                    <a:ext cx="27432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25146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79840" y="2479680"/>
            <a:ext cx="20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56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914400" y="2098800"/>
          <a:ext cx="7391520" cy="256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2098800"/>
                    <a:ext cx="739152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819520" y="1523880"/>
            <a:ext cx="571500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67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27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73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4" name=""/>
          <p:cNvGraphicFramePr/>
          <p:nvPr/>
        </p:nvGraphicFramePr>
        <p:xfrm>
          <a:off x="2709720" y="1700280"/>
          <a:ext cx="5832720" cy="3740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09720" y="1700280"/>
                    <a:ext cx="583272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0" y="3359160"/>
          <a:ext cx="2743200" cy="949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3359160"/>
                    <a:ext cx="27432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43434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989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87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203480" y="2098800"/>
          <a:ext cx="6813360" cy="256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03480" y="2098800"/>
                    <a:ext cx="681336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298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30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04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5" name=""/>
          <p:cNvGraphicFramePr/>
          <p:nvPr/>
        </p:nvGraphicFramePr>
        <p:xfrm>
          <a:off x="3314880" y="2470320"/>
          <a:ext cx="4622760" cy="219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14880" y="2470320"/>
                    <a:ext cx="4622760" cy="21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52280" y="3124080"/>
          <a:ext cx="2667240" cy="1001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3124080"/>
                    <a:ext cx="266724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1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16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914400" y="2098800"/>
          <a:ext cx="7392960" cy="256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2098800"/>
                    <a:ext cx="739296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27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33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33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3700440" y="2489040"/>
          <a:ext cx="3851280" cy="2200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00440" y="2489040"/>
                    <a:ext cx="385128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152280" y="3084480"/>
          <a:ext cx="2667240" cy="924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3084480"/>
                    <a:ext cx="266724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64400" y="514440"/>
            <a:ext cx="393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99"/>
                </a:solidFill>
                <a:latin typeface="Times New Roman"/>
              </a:rPr>
              <a:t>This is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D05092_" descr=""/>
          <p:cNvPicPr/>
          <p:nvPr/>
        </p:nvPicPr>
        <p:blipFill>
          <a:blip r:embed="rId3"/>
          <a:stretch/>
        </p:blipFill>
        <p:spPr>
          <a:xfrm>
            <a:off x="380880" y="2895480"/>
            <a:ext cx="3803760" cy="3451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ing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60948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th Jeopard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5105520"/>
            <a:ext cx="4419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j0236467" descr=""/>
          <p:cNvPicPr/>
          <p:nvPr/>
        </p:nvPicPr>
        <p:blipFill>
          <a:blip r:embed="rId4"/>
          <a:stretch/>
        </p:blipFill>
        <p:spPr>
          <a:xfrm>
            <a:off x="7238880" y="539424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59" name="BD05091_" descr=""/>
          <p:cNvPicPr/>
          <p:nvPr/>
        </p:nvPicPr>
        <p:blipFill>
          <a:blip r:embed="rId5"/>
          <a:stretch/>
        </p:blipFill>
        <p:spPr>
          <a:xfrm>
            <a:off x="1447920" y="0"/>
            <a:ext cx="3322440" cy="3027240"/>
          </a:xfrm>
          <a:prstGeom prst="rect">
            <a:avLst/>
          </a:prstGeom>
          <a:ln w="0">
            <a:noFill/>
          </a:ln>
        </p:spPr>
      </p:pic>
      <p:pic>
        <p:nvPicPr>
          <p:cNvPr id="60" name="j0182990" descr=""/>
          <p:cNvPicPr/>
          <p:nvPr/>
        </p:nvPicPr>
        <p:blipFill>
          <a:blip r:embed="rId6"/>
          <a:stretch/>
        </p:blipFill>
        <p:spPr>
          <a:xfrm>
            <a:off x="6095880" y="6858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3047760"/>
            <a:ext cx="41907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99"/>
                </a:solidFill>
                <a:latin typeface="Times New Roman"/>
              </a:rPr>
              <a:t>Algebra 1 Part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99"/>
                </a:solidFill>
                <a:latin typeface="Times New Roman"/>
              </a:rPr>
              <a:t>The Coordinate Pl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30271" descr=""/>
          <p:cNvPicPr/>
          <p:nvPr/>
        </p:nvPicPr>
        <p:blipFill>
          <a:blip r:embed="rId7"/>
          <a:stretch/>
        </p:blipFill>
        <p:spPr>
          <a:xfrm>
            <a:off x="2057400" y="2362320"/>
            <a:ext cx="4672080" cy="428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019400" y="1847880"/>
                <a:ext cx="11304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990720" y="2971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49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352" name=""/>
          <p:cNvGraphicFramePr/>
          <p:nvPr/>
        </p:nvGraphicFramePr>
        <p:xfrm>
          <a:off x="2541600" y="2046240"/>
          <a:ext cx="3949560" cy="235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41600" y="2046240"/>
                    <a:ext cx="39495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71800" y="1676520"/>
            <a:ext cx="28195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61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36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67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8" name=""/>
          <p:cNvGraphicFramePr/>
          <p:nvPr/>
        </p:nvGraphicFramePr>
        <p:xfrm>
          <a:off x="2841480" y="2557440"/>
          <a:ext cx="5722920" cy="1760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41480" y="2557440"/>
                    <a:ext cx="572292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52280" y="2290680"/>
          <a:ext cx="2667240" cy="1592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2290680"/>
                    <a:ext cx="266724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81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541600" y="2046240"/>
          <a:ext cx="3949560" cy="235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41600" y="2046240"/>
                    <a:ext cx="39495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392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39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98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99" name=""/>
          <p:cNvGraphicFramePr/>
          <p:nvPr/>
        </p:nvGraphicFramePr>
        <p:xfrm>
          <a:off x="3048120" y="2690640"/>
          <a:ext cx="5329080" cy="1705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2690640"/>
                    <a:ext cx="5329080" cy="17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152280" y="2411280"/>
          <a:ext cx="2590920" cy="154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2411280"/>
                    <a:ext cx="259092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0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10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541600" y="2046240"/>
          <a:ext cx="3949560" cy="235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41600" y="2046240"/>
                    <a:ext cx="39495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21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42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27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28" name=""/>
          <p:cNvGraphicFramePr/>
          <p:nvPr/>
        </p:nvGraphicFramePr>
        <p:xfrm>
          <a:off x="3200400" y="2236680"/>
          <a:ext cx="5181480" cy="2508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2236680"/>
                    <a:ext cx="5181480" cy="25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6320" y="2370240"/>
          <a:ext cx="2666880" cy="1592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370240"/>
                    <a:ext cx="266688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39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498760" y="2046240"/>
          <a:ext cx="4037040" cy="235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8760" y="2046240"/>
                    <a:ext cx="403704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50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45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56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7" name=""/>
          <p:cNvGraphicFramePr/>
          <p:nvPr/>
        </p:nvGraphicFramePr>
        <p:xfrm>
          <a:off x="2971800" y="2114640"/>
          <a:ext cx="5334120" cy="289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2114640"/>
                    <a:ext cx="533412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76320" y="2403360"/>
          <a:ext cx="2666880" cy="1559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403360"/>
                    <a:ext cx="2666880" cy="15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6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6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346480" y="2046240"/>
          <a:ext cx="4343400" cy="235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6480" y="2046240"/>
                    <a:ext cx="434340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78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48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84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5" name=""/>
          <p:cNvGraphicFramePr/>
          <p:nvPr/>
        </p:nvGraphicFramePr>
        <p:xfrm>
          <a:off x="3048120" y="2170080"/>
          <a:ext cx="5333760" cy="270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2170080"/>
                    <a:ext cx="533376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76320" y="2471760"/>
          <a:ext cx="2743200" cy="1490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471760"/>
                    <a:ext cx="274320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228600"/>
            <a:ext cx="8686800" cy="838080"/>
          </a:xfrm>
          <a:prstGeom prst="rect">
            <a:avLst/>
          </a:prstGeom>
          <a:solidFill>
            <a:srgbClr val="00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Math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380880" y="1447920"/>
            <a:ext cx="106704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$5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7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4380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2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41911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34290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4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5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3526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6" action="ppaction://hlinksldjump"/>
              </a:rPr>
              <a:t>$2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72600" y="3429000"/>
            <a:ext cx="87624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37260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8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372600" y="4267080"/>
            <a:ext cx="9144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372600" y="51055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372600" y="601992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32" action="ppaction://hlinksldjump"/>
          </p:cNvPr>
          <p:cNvSpPr/>
          <p:nvPr/>
        </p:nvSpPr>
        <p:spPr>
          <a:xfrm>
            <a:off x="205740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3" action="ppaction://hlinksldjump"/>
          </p:cNvPr>
          <p:cNvSpPr/>
          <p:nvPr/>
        </p:nvSpPr>
        <p:spPr>
          <a:xfrm>
            <a:off x="3809880" y="1447920"/>
            <a:ext cx="121932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4" action="ppaction://hlinksldjump"/>
          </p:cNvPr>
          <p:cNvSpPr/>
          <p:nvPr/>
        </p:nvSpPr>
        <p:spPr>
          <a:xfrm>
            <a:off x="5715000" y="1447920"/>
            <a:ext cx="106668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a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5" action="ppaction://hlinksldjump"/>
          </p:cNvPr>
          <p:cNvSpPr/>
          <p:nvPr/>
        </p:nvSpPr>
        <p:spPr>
          <a:xfrm>
            <a:off x="7467480" y="1447920"/>
            <a:ext cx="106704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dr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A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36" action="ppaction://hlinksldjump"/>
          </p:cNvPr>
          <p:cNvSpPr/>
          <p:nvPr/>
        </p:nvSpPr>
        <p:spPr>
          <a:xfrm>
            <a:off x="9296280" y="1447920"/>
            <a:ext cx="1067040" cy="609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yst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514600"/>
            <a:ext cx="9144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7" action="ppaction://hlinksldjump"/>
              </a:rPr>
              <a:t>$1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HH01298_" descr=""/>
          <p:cNvPicPr/>
          <p:nvPr/>
        </p:nvPicPr>
        <p:blipFill>
          <a:blip r:embed="rId38"/>
          <a:stretch/>
        </p:blipFill>
        <p:spPr>
          <a:xfrm>
            <a:off x="8228160" y="228600"/>
            <a:ext cx="644400" cy="838080"/>
          </a:xfrm>
          <a:prstGeom prst="rect">
            <a:avLst/>
          </a:prstGeom>
          <a:ln w="0">
            <a:noFill/>
          </a:ln>
        </p:spPr>
      </p:pic>
      <p:pic>
        <p:nvPicPr>
          <p:cNvPr id="104" name="j0104750" descr=""/>
          <p:cNvPicPr/>
          <p:nvPr/>
        </p:nvPicPr>
        <p:blipFill>
          <a:blip r:embed="rId39"/>
          <a:stretch/>
        </p:blipFill>
        <p:spPr>
          <a:xfrm>
            <a:off x="7543800" y="457200"/>
            <a:ext cx="676440" cy="360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808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0"/>
            <a:ext cx="4419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496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499" name=""/>
          <p:cNvGraphicFramePr/>
          <p:nvPr/>
        </p:nvGraphicFramePr>
        <p:xfrm>
          <a:off x="2438280" y="1676520"/>
          <a:ext cx="4388040" cy="349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1676520"/>
                    <a:ext cx="438804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07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51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13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14" name=""/>
          <p:cNvGraphicFramePr/>
          <p:nvPr/>
        </p:nvGraphicFramePr>
        <p:xfrm>
          <a:off x="3809880" y="2690640"/>
          <a:ext cx="3632400" cy="1760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2690640"/>
                    <a:ext cx="3632400" cy="17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76320" y="1776240"/>
          <a:ext cx="2743200" cy="2186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1776240"/>
                    <a:ext cx="274320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2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25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189080" y="1676520"/>
          <a:ext cx="6888240" cy="349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9080" y="1676520"/>
                    <a:ext cx="688824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37" name="Jeopardy%20Thumbnail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>
              <a:hlinkClick r:id="rId5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54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43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4" name=""/>
          <p:cNvGraphicFramePr/>
          <p:nvPr/>
        </p:nvGraphicFramePr>
        <p:xfrm>
          <a:off x="3700440" y="2690640"/>
          <a:ext cx="3851280" cy="1760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0440" y="2690640"/>
                    <a:ext cx="3851280" cy="17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76320" y="2570040"/>
          <a:ext cx="2743200" cy="139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320" y="2570040"/>
                    <a:ext cx="274320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5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55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914400" y="1523880"/>
          <a:ext cx="7283520" cy="367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1523880"/>
                    <a:ext cx="7283520" cy="36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66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57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72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73" name=""/>
          <p:cNvGraphicFramePr/>
          <p:nvPr/>
        </p:nvGraphicFramePr>
        <p:xfrm>
          <a:off x="3200400" y="2800440"/>
          <a:ext cx="5397480" cy="139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2800440"/>
                    <a:ext cx="53974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76320" y="2579760"/>
          <a:ext cx="2743200" cy="13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579760"/>
                    <a:ext cx="274320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58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84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1143000" y="1600200"/>
          <a:ext cx="6800760" cy="367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1600200"/>
                    <a:ext cx="680076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2895480" y="1523880"/>
            <a:ext cx="5943600" cy="396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595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59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01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02" name=""/>
          <p:cNvGraphicFramePr/>
          <p:nvPr/>
        </p:nvGraphicFramePr>
        <p:xfrm>
          <a:off x="5075280" y="2800440"/>
          <a:ext cx="110160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75280" y="2800440"/>
                    <a:ext cx="11016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76320" y="2481120"/>
          <a:ext cx="2743200" cy="148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481120"/>
                    <a:ext cx="2743200" cy="14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14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139760" y="2046240"/>
          <a:ext cx="6757920" cy="235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39760" y="2046240"/>
                    <a:ext cx="675792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-45720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25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62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31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32" name=""/>
          <p:cNvGraphicFramePr/>
          <p:nvPr/>
        </p:nvGraphicFramePr>
        <p:xfrm>
          <a:off x="4084560" y="2800440"/>
          <a:ext cx="308124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84560" y="2800440"/>
                    <a:ext cx="30812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76320" y="3005280"/>
          <a:ext cx="2743200" cy="957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005280"/>
                    <a:ext cx="27432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1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Ordered Pai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33720" y="3124080"/>
          <a:ext cx="6440400" cy="24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3124080"/>
                    <a:ext cx="644040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895480" y="1219320"/>
          <a:ext cx="3414960" cy="133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1219320"/>
                    <a:ext cx="3414960" cy="13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609480" y="289548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-360" y="-533520"/>
            <a:ext cx="251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4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4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646" name=""/>
          <p:cNvGraphicFramePr/>
          <p:nvPr/>
        </p:nvGraphicFramePr>
        <p:xfrm>
          <a:off x="1066680" y="2165400"/>
          <a:ext cx="7010640" cy="232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65400"/>
                    <a:ext cx="701064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55" name="Jeopardy%20Thumbnail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>
              <a:hlinkClick r:id="rId5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659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61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62" name=""/>
          <p:cNvGraphicFramePr/>
          <p:nvPr/>
        </p:nvGraphicFramePr>
        <p:xfrm>
          <a:off x="4414680" y="2800440"/>
          <a:ext cx="2421000" cy="15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4680" y="2800440"/>
                    <a:ext cx="24210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76320" y="3051000"/>
          <a:ext cx="2743200" cy="91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320" y="3051000"/>
                    <a:ext cx="2743200" cy="9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7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73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66680" y="2165400"/>
          <a:ext cx="7010640" cy="232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65400"/>
                    <a:ext cx="701064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684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688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90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1" name=""/>
          <p:cNvGraphicFramePr/>
          <p:nvPr/>
        </p:nvGraphicFramePr>
        <p:xfrm>
          <a:off x="4579920" y="2800440"/>
          <a:ext cx="209088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9920" y="2800440"/>
                    <a:ext cx="209088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76320" y="3051000"/>
          <a:ext cx="2743200" cy="911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051000"/>
                    <a:ext cx="2743200" cy="9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9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0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02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066680" y="2165400"/>
          <a:ext cx="7010640" cy="232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65400"/>
                    <a:ext cx="701064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124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13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71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19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0" name=""/>
          <p:cNvGraphicFramePr/>
          <p:nvPr/>
        </p:nvGraphicFramePr>
        <p:xfrm>
          <a:off x="4414680" y="2800440"/>
          <a:ext cx="242100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14680" y="2800440"/>
                    <a:ext cx="24210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76320" y="3051000"/>
          <a:ext cx="2743200" cy="911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051000"/>
                    <a:ext cx="2743200" cy="9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8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3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31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1066680" y="2165400"/>
          <a:ext cx="7010640" cy="232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65400"/>
                    <a:ext cx="701064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42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74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48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9" name=""/>
          <p:cNvGraphicFramePr/>
          <p:nvPr/>
        </p:nvGraphicFramePr>
        <p:xfrm>
          <a:off x="4579920" y="2800440"/>
          <a:ext cx="209088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9920" y="2800440"/>
                    <a:ext cx="209088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76320" y="3051000"/>
          <a:ext cx="2743200" cy="911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3051000"/>
                    <a:ext cx="2743200" cy="9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7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5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60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990720" y="2209680"/>
          <a:ext cx="7337160" cy="218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209680"/>
                    <a:ext cx="733716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72" name="Jeopardy%20Thumbnail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>
              <a:hlinkClick r:id="rId5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77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78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9" name=""/>
          <p:cNvGraphicFramePr/>
          <p:nvPr/>
        </p:nvGraphicFramePr>
        <p:xfrm>
          <a:off x="4414680" y="2800440"/>
          <a:ext cx="2421000" cy="15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4680" y="2800440"/>
                    <a:ext cx="24210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"/>
          <p:cNvGraphicFramePr/>
          <p:nvPr/>
        </p:nvGraphicFramePr>
        <p:xfrm>
          <a:off x="76320" y="3146400"/>
          <a:ext cx="2743200" cy="81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320" y="3146400"/>
                    <a:ext cx="27432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2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Solving for 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8120" y="1295280"/>
          <a:ext cx="2666880" cy="15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1295280"/>
                    <a:ext cx="266688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85800" y="3581280"/>
          <a:ext cx="7467480" cy="21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3581280"/>
                    <a:ext cx="74674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6320" y="304812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7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9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791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794" name=""/>
          <p:cNvGraphicFramePr/>
          <p:nvPr/>
        </p:nvGraphicFramePr>
        <p:xfrm>
          <a:off x="914400" y="1662120"/>
          <a:ext cx="7315200" cy="3398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14400" y="1662120"/>
                    <a:ext cx="73152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6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02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806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08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9" name=""/>
          <p:cNvGraphicFramePr/>
          <p:nvPr/>
        </p:nvGraphicFramePr>
        <p:xfrm>
          <a:off x="3048120" y="2666880"/>
          <a:ext cx="5257800" cy="147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2666880"/>
                    <a:ext cx="525780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76320" y="2687760"/>
          <a:ext cx="2743200" cy="1274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687760"/>
                    <a:ext cx="27432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886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7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91120" y="5638680"/>
            <a:ext cx="120960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1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20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914400" y="1662120"/>
          <a:ext cx="7315200" cy="33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1662120"/>
                    <a:ext cx="73152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31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835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37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38" name=""/>
          <p:cNvGraphicFramePr/>
          <p:nvPr/>
        </p:nvGraphicFramePr>
        <p:xfrm>
          <a:off x="0" y="2652840"/>
          <a:ext cx="2819520" cy="130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2652840"/>
                    <a:ext cx="281952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"/>
          <p:cNvGraphicFramePr/>
          <p:nvPr/>
        </p:nvGraphicFramePr>
        <p:xfrm>
          <a:off x="3002040" y="2666880"/>
          <a:ext cx="5349960" cy="147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02040" y="2666880"/>
                    <a:ext cx="534996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4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6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4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49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3" name=""/>
          <p:cNvGraphicFramePr/>
          <p:nvPr/>
        </p:nvGraphicFramePr>
        <p:xfrm>
          <a:off x="914400" y="1662120"/>
          <a:ext cx="7315200" cy="33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1662120"/>
                    <a:ext cx="73152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60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86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5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66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67" name=""/>
          <p:cNvGraphicFramePr/>
          <p:nvPr/>
        </p:nvGraphicFramePr>
        <p:xfrm>
          <a:off x="76320" y="2687760"/>
          <a:ext cx="2743200" cy="127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2687760"/>
                    <a:ext cx="27432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"/>
          <p:cNvGraphicFramePr/>
          <p:nvPr/>
        </p:nvGraphicFramePr>
        <p:xfrm>
          <a:off x="3002040" y="2666880"/>
          <a:ext cx="5349960" cy="147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02040" y="2666880"/>
                    <a:ext cx="534996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3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5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87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78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2" name=""/>
          <p:cNvGraphicFramePr/>
          <p:nvPr/>
        </p:nvGraphicFramePr>
        <p:xfrm>
          <a:off x="914400" y="1662120"/>
          <a:ext cx="7315200" cy="33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1662120"/>
                    <a:ext cx="73152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889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893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95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96" name=""/>
          <p:cNvGraphicFramePr/>
          <p:nvPr/>
        </p:nvGraphicFramePr>
        <p:xfrm>
          <a:off x="76320" y="2687760"/>
          <a:ext cx="2743200" cy="127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2687760"/>
                    <a:ext cx="27432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"/>
          <p:cNvGraphicFramePr/>
          <p:nvPr/>
        </p:nvGraphicFramePr>
        <p:xfrm>
          <a:off x="3002040" y="2666880"/>
          <a:ext cx="5349960" cy="147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02040" y="2666880"/>
                    <a:ext cx="534996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4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5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0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07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914400" y="1662120"/>
          <a:ext cx="7315200" cy="33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1662120"/>
                    <a:ext cx="73152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18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9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92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24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25" name=""/>
          <p:cNvGraphicFramePr/>
          <p:nvPr/>
        </p:nvGraphicFramePr>
        <p:xfrm>
          <a:off x="3424320" y="2800440"/>
          <a:ext cx="440208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24320" y="2800440"/>
                    <a:ext cx="440208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7" name=""/>
          <p:cNvGraphicFramePr/>
          <p:nvPr/>
        </p:nvGraphicFramePr>
        <p:xfrm>
          <a:off x="76320" y="2722680"/>
          <a:ext cx="2666880" cy="1239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20" y="2722680"/>
                    <a:ext cx="26668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3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819520" y="1752480"/>
          <a:ext cx="3487680" cy="401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752480"/>
                    <a:ext cx="348768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4039560" y="1371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9880" y="3505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50320" y="35053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2920" y="57150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800" y="50292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4647960" y="3809520"/>
            <a:ext cx="19810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880" y="144792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ordinat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4120" y="2133720"/>
          <a:ext cx="765000" cy="484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2133720"/>
                    <a:ext cx="7650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809880" y="3276720"/>
          <a:ext cx="782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3276720"/>
                    <a:ext cx="782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4533840" y="36957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1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1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3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>
            <a:hlinkClick r:id="rId2" action="ppaction://hlinksldjump"/>
          </p:cNvPr>
          <p:cNvSpPr/>
          <p:nvPr/>
        </p:nvSpPr>
        <p:spPr>
          <a:xfrm>
            <a:off x="0" y="5638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j010517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3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37" name="Jeopardy%20Thumbnail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">
              <a:hlinkClick r:id="rId7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940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2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1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48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95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54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55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2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9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1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6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64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5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0" name=""/>
          <p:cNvGrpSpPr/>
          <p:nvPr/>
        </p:nvGrpSpPr>
        <p:grpSpPr>
          <a:xfrm>
            <a:off x="2971800" y="3657600"/>
            <a:ext cx="4181400" cy="2233440"/>
            <a:chOff x="2971800" y="3657600"/>
            <a:chExt cx="4181400" cy="2233440"/>
          </a:xfrm>
        </p:grpSpPr>
        <p:pic>
          <p:nvPicPr>
            <p:cNvPr id="971" name="" descr=""/>
            <p:cNvPicPr/>
            <p:nvPr/>
          </p:nvPicPr>
          <p:blipFill>
            <a:blip r:embed="rId9"/>
            <a:stretch/>
          </p:blipFill>
          <p:spPr>
            <a:xfrm>
              <a:off x="3733920" y="365760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 txBox="1"/>
            <p:nvPr/>
          </p:nvSpPr>
          <p:spPr>
            <a:xfrm>
              <a:off x="2971800" y="434340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124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2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78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982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84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85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3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1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2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993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994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8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04920" y="91440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3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06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7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1010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12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13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4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7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9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0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021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22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4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33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4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1037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8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39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40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50 Poi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4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045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6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7" name="j010517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048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49" name="Jeopardy%20Thumbnail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0" name="">
              <a:hlinkClick r:id="rId6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3479400" y="0"/>
            <a:ext cx="22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3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-360" y="-38088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– 50 Poin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49844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60" name="Jeopardy%20Thumbnai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>
              <a:hlinkClick r:id="rId4" action="ppaction://hlinksldjump"/>
            </p:cNvPr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1064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66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7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4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Straight Li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590920" y="1219320"/>
          <a:ext cx="3886200" cy="129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219320"/>
                    <a:ext cx="388620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819520" y="2514600"/>
          <a:ext cx="3487680" cy="401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2514600"/>
                    <a:ext cx="348768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4152960" y="48387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9880" y="4952880"/>
          <a:ext cx="858960" cy="373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4952880"/>
                    <a:ext cx="85896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52578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8576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288040" y="3733920"/>
          <a:ext cx="603000" cy="372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88040" y="3733920"/>
                    <a:ext cx="6030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019920" y="2895480"/>
          <a:ext cx="603000" cy="373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19920" y="2895480"/>
                    <a:ext cx="60300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 flipV="1">
            <a:off x="4191120" y="2895480"/>
            <a:ext cx="182880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41148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685800" y="15238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567080" y="0"/>
            <a:ext cx="619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2" name="j0172629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24680" y="579132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 txBox="1"/>
          <p:nvPr/>
        </p:nvSpPr>
        <p:spPr>
          <a:xfrm>
            <a:off x="7848720" y="5943600"/>
            <a:ext cx="112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4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60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76" name="Jeopardy%20Thumbnail" descr=""/>
            <p:cNvPicPr/>
            <p:nvPr/>
          </p:nvPicPr>
          <p:blipFill>
            <a:blip r:embed="rId2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079" name="j0105174" descr=""/>
          <p:cNvPicPr/>
          <p:nvPr/>
        </p:nvPicPr>
        <p:blipFill>
          <a:blip r:embed="rId3"/>
          <a:stretch/>
        </p:blipFill>
        <p:spPr>
          <a:xfrm>
            <a:off x="4267080" y="5638680"/>
            <a:ext cx="1209960" cy="10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0" name=""/>
          <p:cNvGraphicFramePr/>
          <p:nvPr/>
        </p:nvGraphicFramePr>
        <p:xfrm>
          <a:off x="1600200" y="2133720"/>
          <a:ext cx="5835600" cy="218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2133720"/>
                    <a:ext cx="583560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2895480" y="1523880"/>
            <a:ext cx="563904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953680" y="0"/>
            <a:ext cx="31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0" y="5479920"/>
            <a:ext cx="1905120" cy="1371600"/>
            <a:chOff x="0" y="5479920"/>
            <a:chExt cx="1905120" cy="1371600"/>
          </a:xfrm>
        </p:grpSpPr>
        <p:pic>
          <p:nvPicPr>
            <p:cNvPr id="1087" name="Jeopardy%20Thumbnail" descr=""/>
            <p:cNvPicPr/>
            <p:nvPr/>
          </p:nvPicPr>
          <p:blipFill>
            <a:blip r:embed="rId2"/>
            <a:stretch/>
          </p:blipFill>
          <p:spPr>
            <a:xfrm>
              <a:off x="380880" y="5708520"/>
              <a:ext cx="12956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0" y="5479920"/>
              <a:ext cx="190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304920" y="5708520"/>
              <a:ext cx="13716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meboard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7543800" y="5632560"/>
            <a:ext cx="1600200" cy="1218960"/>
            <a:chOff x="7543800" y="5632560"/>
            <a:chExt cx="1600200" cy="1218960"/>
          </a:xfrm>
        </p:grpSpPr>
        <p:pic>
          <p:nvPicPr>
            <p:cNvPr id="1091" name="Jeopardy%20Thumb%20Problem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772400" y="5784840"/>
              <a:ext cx="1295280" cy="93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"/>
            <p:cNvSpPr txBox="1"/>
            <p:nvPr/>
          </p:nvSpPr>
          <p:spPr>
            <a:xfrm>
              <a:off x="7848720" y="5860800"/>
              <a:ext cx="11239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ack to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ble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93" name="">
              <a:hlinkClick r:id="" action="ppaction://hlinkshowjump?jump=previousslide"/>
            </p:cNvPr>
            <p:cNvSpPr/>
            <p:nvPr/>
          </p:nvSpPr>
          <p:spPr>
            <a:xfrm>
              <a:off x="7543800" y="5632560"/>
              <a:ext cx="160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94" name=""/>
          <p:cNvGraphicFramePr/>
          <p:nvPr/>
        </p:nvGraphicFramePr>
        <p:xfrm>
          <a:off x="2819520" y="2800440"/>
          <a:ext cx="5613120" cy="153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2800440"/>
                    <a:ext cx="56131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Jeopardy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0948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e 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1103" name=""/>
          <p:cNvSpPr/>
          <p:nvPr/>
        </p:nvSpPr>
        <p:spPr>
          <a:xfrm>
            <a:off x="1752120" y="121932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0065A Slot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4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05" name=""/>
          <p:cNvSpPr/>
          <p:nvPr/>
        </p:nvSpPr>
        <p:spPr>
          <a:xfrm>
            <a:off x="1828800" y="19810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879 Space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1828800" y="289548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877 Space Las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520" y="5638680"/>
            <a:ext cx="423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Not Dele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ins objects for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9" name="" descr=""/>
          <p:cNvPicPr/>
          <p:nvPr/>
        </p:nvPicPr>
        <p:blipFill>
          <a:blip r:embed="rId4"/>
          <a:stretch/>
        </p:blipFill>
        <p:spPr>
          <a:xfrm>
            <a:off x="853920" y="384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0" name=""/>
          <p:cNvSpPr/>
          <p:nvPr/>
        </p:nvSpPr>
        <p:spPr>
          <a:xfrm>
            <a:off x="1904760" y="373392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97484 Large Explo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nd and other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4724280" y="4191120"/>
            <a:ext cx="4181400" cy="2233440"/>
            <a:chOff x="4724280" y="4191120"/>
            <a:chExt cx="4181400" cy="2233440"/>
          </a:xfrm>
        </p:grpSpPr>
        <p:pic>
          <p:nvPicPr>
            <p:cNvPr id="1113" name="" descr=""/>
            <p:cNvPicPr/>
            <p:nvPr/>
          </p:nvPicPr>
          <p:blipFill>
            <a:blip r:embed="rId5"/>
            <a:stretch/>
          </p:blipFill>
          <p:spPr>
            <a:xfrm>
              <a:off x="5486400" y="4191120"/>
              <a:ext cx="23810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4" name=""/>
            <p:cNvSpPr txBox="1"/>
            <p:nvPr/>
          </p:nvSpPr>
          <p:spPr>
            <a:xfrm>
              <a:off x="4724280" y="4876920"/>
              <a:ext cx="4181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AILY DOUBL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1115" name="" descr=""/>
          <p:cNvPicPr/>
          <p:nvPr/>
        </p:nvPicPr>
        <p:blipFill>
          <a:blip r:embed="rId6"/>
          <a:stretch/>
        </p:blipFill>
        <p:spPr>
          <a:xfrm>
            <a:off x="838080" y="4648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1906560" y="45720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0074988 Space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 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Design Credits – Version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33520" y="129528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Point Slide Show 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y Wy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 Hope High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risville, 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3" name="Randy%202002%20School%20Photo" descr=""/>
          <p:cNvPicPr/>
          <p:nvPr/>
        </p:nvPicPr>
        <p:blipFill>
          <a:blip r:embed="rId2"/>
          <a:srcRect l="0" t="0" r="0" b="4599"/>
          <a:stretch/>
        </p:blipFill>
        <p:spPr>
          <a:xfrm>
            <a:off x="3657600" y="3429000"/>
            <a:ext cx="1798560" cy="2362320"/>
          </a:xfrm>
          <a:prstGeom prst="rect">
            <a:avLst/>
          </a:prstGeom>
          <a:ln w="0">
            <a:noFill/>
          </a:ln>
        </p:spPr>
      </p:pic>
      <p:sp>
        <p:nvSpPr>
          <p:cNvPr id="1124" name=""/>
          <p:cNvSpPr/>
          <p:nvPr/>
        </p:nvSpPr>
        <p:spPr>
          <a:xfrm>
            <a:off x="1676520" y="58672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ed from Slide Show by Carol N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Revision Histo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33520" y="1295280"/>
            <a:ext cx="80010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sion 4 – June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 points to doll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ed link to credits screen by clicking on “Math Jeopardy” on game 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 problems and answers to generic place 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19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or changes on opening game scr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 for Teachers – Keep as las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Help for Teac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71600" y="1143000"/>
            <a:ext cx="7162920" cy="56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reate a new set of categories and problem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 topics on title screen (slide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category headers on question board (slide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category help slides (immediately following question bo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ify questions and answers (answers immediately follow each question sli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t and Paste Daily Dou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p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stions and answers are MathType objects.  It is easier if you keep it that way.  Even for text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put copy of question on the answer slide, copy and paste the MathType object from the question slide then resiz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XIT graphic on the game board will exit WITHOUT saving anything.  It is intended for student use when play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 sure you test your game to make sure everything is linked and working correc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playing the intro screen of the game you can click in the lower right corner at any time to skip the intro and go directly to the question bo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NO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any hyperli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867280" y="6324480"/>
            <a:ext cx="305964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 &lt;ctrl&gt;&lt;home&gt; to return to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Quadrants &amp; Ax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819520" y="1752480"/>
          <a:ext cx="3487680" cy="401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752480"/>
                    <a:ext cx="348768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533520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9560" y="1371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6200" y="3505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6400" y="25146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9720" y="44956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9960" y="44956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6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28600"/>
            <a:ext cx="8839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Myste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7493"/>
                </a:moveTo>
                <a:lnTo>
                  <a:pt x="11627" y="7493"/>
                </a:lnTo>
                <a:lnTo>
                  <a:pt x="11627" y="12828"/>
                </a:lnTo>
                <a:cubicBezTo>
                  <a:pt x="11627" y="13751"/>
                  <a:pt x="12428" y="14482"/>
                  <a:pt x="13464" y="14482"/>
                </a:cubicBezTo>
                <a:lnTo>
                  <a:pt x="15126" y="14482"/>
                </a:lnTo>
                <a:cubicBezTo>
                  <a:pt x="16162" y="14482"/>
                  <a:pt x="16963" y="13751"/>
                  <a:pt x="16963" y="12828"/>
                </a:cubicBezTo>
                <a:lnTo>
                  <a:pt x="16963" y="7493"/>
                </a:lnTo>
                <a:lnTo>
                  <a:pt x="15126" y="7493"/>
                </a:lnTo>
                <a:lnTo>
                  <a:pt x="18634" y="3985"/>
                </a:lnTo>
                <a:lnTo>
                  <a:pt x="22307" y="7493"/>
                </a:lnTo>
                <a:lnTo>
                  <a:pt x="20470" y="7493"/>
                </a:lnTo>
                <a:lnTo>
                  <a:pt x="20470" y="12828"/>
                </a:lnTo>
                <a:cubicBezTo>
                  <a:pt x="20470" y="15596"/>
                  <a:pt x="17894" y="18155"/>
                  <a:pt x="15126" y="18155"/>
                </a:cubicBezTo>
                <a:lnTo>
                  <a:pt x="13464" y="18155"/>
                </a:lnTo>
                <a:cubicBezTo>
                  <a:pt x="10696" y="18155"/>
                  <a:pt x="8120" y="15596"/>
                  <a:pt x="8120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’re on your ow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CPSS</cp:lastModifiedBy>
  <dcterms:modified xsi:type="dcterms:W3CDTF">2003-10-28T22:22:22Z</dcterms:modified>
  <cp:revision>192</cp:revision>
  <dc:subject/>
  <dc:title>PowerPoint Presentation</dc:title>
</cp:coreProperties>
</file>